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51.jpeg" ContentType="image/jpeg"/>
  <Override PartName="/ppt/media/image27.jpeg" ContentType="image/jpeg"/>
  <Override PartName="/ppt/media/image50.jpeg" ContentType="image/jpeg"/>
  <Override PartName="/ppt/media/image26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24.jpeg" ContentType="image/jpeg"/>
  <Override PartName="/ppt/media/image14.png" ContentType="image/png"/>
  <Override PartName="/ppt/media/image10.jpeg" ContentType="image/jpeg"/>
  <Override PartName="/ppt/media/image17.jpeg" ContentType="image/jpeg"/>
  <Override PartName="/ppt/media/image3.png" ContentType="image/png"/>
  <Override PartName="/ppt/media/image25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22.jpeg" ContentType="image/jpeg"/>
  <Override PartName="/ppt/media/image3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1.jpeg" ContentType="image/jpeg"/>
  <Override PartName="/ppt/media/image45.jpeg" ContentType="image/jpeg"/>
  <Override PartName="/ppt/media/image44.jpeg" ContentType="image/jpeg"/>
  <Override PartName="/ppt/media/image38.jpeg" ContentType="image/jpeg"/>
  <Override PartName="/ppt/media/image46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1.jpeg" ContentType="image/jpeg"/>
  <Override PartName="/ppt/media/image35.jpeg" ContentType="image/jpeg"/>
  <Override PartName="/ppt/media/image47.png" ContentType="image/png"/>
  <Override PartName="/ppt/media/image54.jpeg" ContentType="image/jpeg"/>
  <Override PartName="/ppt/media/image33.jpeg" ContentType="image/jpeg"/>
  <Override PartName="/ppt/media/image55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43.jpeg" ContentType="image/jpeg"/>
  <Override PartName="/ppt/media/image5.png" ContentType="image/png"/>
  <Override PartName="/ppt/media/image29.jpeg" ContentType="image/jpeg"/>
  <Override PartName="/ppt/media/image52.jpeg" ContentType="image/jpeg"/>
  <Override PartName="/ppt/media/image39.jpeg" ContentType="image/jpeg"/>
  <Override PartName="/ppt/media/image8.png" ContentType="image/png"/>
  <Override PartName="/ppt/media/image34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4267-F4A3-4700-B0FE-F83D07FCB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8049-EB94-489D-8649-A891B3F12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974E-AD50-4C96-BA11-64496CAA4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BA25-4F2A-4A66-B819-A702C4FDD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90DC6-1FB1-41D5-94C7-4D7303727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F2833-16DF-4CBA-97F4-17A6BA440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9E875-975E-4F78-A2D0-BBB3AD576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DD796-4B31-4248-B8AB-FDDCD5A91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E3824-8861-4E09-8AB5-5D07647E2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6CC90-518E-4C45-8AAD-B6EA9A216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B5730-9068-4A34-A4C1-E80DF0395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8ED6-FB6D-4064-A1DC-81458268F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6CF90-2BA9-4F4F-B822-58CBCD9AA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8BB24-D68A-436B-B7D8-62D973C24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CC767-655C-4C64-890F-278DA0C3A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A1A4C-4BEE-4478-8770-5E87BFC29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AC173-6791-49AE-BC47-FF891BB90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D8C40-37AF-4031-8909-90F390F94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109F6-5314-4422-9757-F40F4DB0B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2EEC1-C21A-488A-BD6D-47E54C8F4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67794-8694-4DAE-A0E9-F64B7AA08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37417-91E6-490C-83FA-E7643E2AF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D6DF-FC0C-4002-8DBC-56E087130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A4861-7E4B-4385-B78A-69C584BBD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C4BFD-D1F4-496A-8AA1-B1F96EED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2778E-B4E5-4B6F-830A-5389E48FE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78406-CAA8-4B21-9078-0D15AFAEE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671DE-07BF-413B-8942-256F47D2F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62C47-25D2-45DE-8229-24AB1F7F2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B9C69-DE4B-4739-839E-A52D540C3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488EA-01AD-424B-9594-C425B5EEF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3D9DA-D949-4E84-9CEC-3C659CA72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EDC26-A546-4190-8B33-A721F4099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5025-D4D7-4740-B3D4-2C6767C75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6509B-C597-4000-95C0-4A3E5A031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E8E61-645B-4292-9A97-1B951CF33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C6992-B264-4926-B1C6-27114C210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26F4C-CDA1-4CC6-80AA-C6E3A308A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A7220-2D9D-46EC-A7C2-4FE81D36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08486-134B-4B96-87F0-150EBB5B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240FE-F552-4C9C-A371-BE79CDC4E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57EBD-E193-4CEF-B599-0559A1256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4D840-949D-487F-9907-BD5D7558E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C8B3-70B8-4D2A-A70A-02E09343F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C458-B923-4FD0-8EFA-77BA6BB57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2F3B-9E95-4812-80A5-09191A617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99C9-7657-47C3-87C6-FBBDFEF10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553E-F0AA-4300-B063-5A6062F72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2a6066">
                  <a:alpha val="45098"/>
                </a:srgbClr>
              </a:gs>
              <a:gs pos="100000">
                <a:srgbClr val="a52fa9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7d2c80">
                  <a:alpha val="45098"/>
                </a:srgbClr>
              </a:gs>
              <a:gs pos="100000">
                <a:srgbClr val="2e7a8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45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04da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465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405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4052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4052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FC8EE-BDD6-4D3B-A961-B3AB2E6ABB35}" type="slidenum">
              <a:rPr b="0" lang="en-US" sz="1200" spc="-1" strike="noStrike">
                <a:solidFill>
                  <a:srgbClr val="3f4052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2a6066">
                  <a:alpha val="45098"/>
                </a:srgbClr>
              </a:gs>
              <a:gs pos="100000">
                <a:srgbClr val="a52fa9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7d2c80">
                  <a:alpha val="45098"/>
                </a:srgbClr>
              </a:gs>
              <a:gs pos="100000">
                <a:srgbClr val="2e7a8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dede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dede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04da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465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4d4d4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4d4d4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4d4d4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10694-F911-46F5-9453-AC123EDE71BC}" type="slidenum">
              <a:rPr b="0" lang="en-US" sz="1200" spc="-1" strike="noStrike">
                <a:solidFill>
                  <a:srgbClr val="d4d4d4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2a6066">
                  <a:alpha val="45098"/>
                </a:srgbClr>
              </a:gs>
              <a:gs pos="100000">
                <a:srgbClr val="a52fa9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7d2c80">
                  <a:alpha val="45098"/>
                </a:srgbClr>
              </a:gs>
              <a:gs pos="100000">
                <a:srgbClr val="2e7a8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dede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dede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04da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465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4d4d4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4d4d4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4d4d4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EBDF4-7723-4D4B-B9E1-F8D4F98E53C4}" type="slidenum">
              <a:rPr b="0" lang="en-US" sz="1200" spc="-1" strike="noStrike">
                <a:solidFill>
                  <a:srgbClr val="d4d4d4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2a6066">
                  <a:alpha val="45098"/>
                </a:srgbClr>
              </a:gs>
              <a:gs pos="100000">
                <a:srgbClr val="a52fa9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7d2c80">
                  <a:alpha val="45098"/>
                </a:srgbClr>
              </a:gs>
              <a:gs pos="100000">
                <a:srgbClr val="2e7a8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45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04da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465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405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4052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4052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52545-6C16-45BB-A478-FD443A505B28}" type="slidenum">
              <a:rPr b="0" lang="en-US" sz="1200" spc="-1" strike="noStrike">
                <a:solidFill>
                  <a:srgbClr val="3f4052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bg/imgres?imgurl=http://www.bnr.bg/NR/rdonlyres/2518ACED-7028-46E7-ABDA-F4A3BB64526B/0/r_kabaivanska_portret.jpg&amp;imgrefurl=http://www.bnr.bg/RadioBulgaria/Emission_Greek/Theme_Muzika/Material/18092007_kabaivanska_kallas.htm&amp;h=446&amp;w=310&amp;sz=23&amp;hl=bg&amp;start=2&amp;um=1&amp;tbnid=mXb6BWkUnACXZM:&amp;tbnh=127&amp;tbnw=88&amp;prev=/images%3Fq%3D%25D0%25A0%25D0%25B0%25D0%25B9%25D0%25BD%25D0%25B0%2B%25D0%259A%25D0%25B0%25D0%25B1%25D0%25B0%25D0%25B8%25D0%25B2%25D0%25B0%25D0%25BD%25D1%2581%25D0%25BA%25D0%25B0%26um%3D1%26hl%3Dbg%26sa%3DN" TargetMode="External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hyperlink" Target="http://movie.pop.bg/person23430.html" TargetMode="External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hyperlink" Target="http://music.pop.bg/person47.html" TargetMode="External"/><Relationship Id="rId7" Type="http://schemas.openxmlformats.org/officeDocument/2006/relationships/image" Target="../media/image43.jpeg"/><Relationship Id="rId8" Type="http://schemas.openxmlformats.org/officeDocument/2006/relationships/hyperlink" Target="http://lili-ivanova.hit.bg/album6.html" TargetMode="External"/><Relationship Id="rId9" Type="http://schemas.openxmlformats.org/officeDocument/2006/relationships/image" Target="../media/image44.jpeg"/><Relationship Id="rId10" Type="http://schemas.openxmlformats.org/officeDocument/2006/relationships/image" Target="../media/image45.jpeg"/><Relationship Id="rId11" Type="http://schemas.openxmlformats.org/officeDocument/2006/relationships/image" Target="../media/image46.jpeg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pn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hyperlink" Target="http://bg.wikipedia.org/wiki/&#1050;&#1072;&#1088;&#1090;&#1080;&#1085;&#1082;&#1072;:Vazov_Museum_Sopot.jpg" TargetMode="External"/><Relationship Id="rId4" Type="http://schemas.openxmlformats.org/officeDocument/2006/relationships/image" Target="../media/image10.jpeg"/><Relationship Id="rId5" Type="http://schemas.openxmlformats.org/officeDocument/2006/relationships/hyperlink" Target="http://bg.wikipedia.org/wiki/&#1057;&#1086;&#1087;&#1086;&#1090;" TargetMode="Externa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hyperlink" Target="http://bg.wikipedia.org/wiki/&#1050;&#1072;&#1088;&#1090;&#1080;&#1085;&#1082;&#1072;:Baylovo-Elin-Pelin-house.jpg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images.google.bg/imgres?imgurl=http://upload.wikimedia.org/wikipedia/bg/thumb/6/6a/Elin_Pelin.jpg/160px-Elin_Pelin.jpg&amp;imgrefurl=http://www.fresh-bg.com/forum/viewtopic.php%3Fp%3D12033&amp;h=242&amp;w=160&amp;sz=8&amp;hl=bg&amp;start=5&amp;um=1&amp;tbnid=lpHO4-4WbTfaUM:&amp;tbnh=110&amp;tbnw=73&amp;prev=/images%3Fq%3D%25D0%2595%25D0%25BB%25D0%25B8%25D0%25BD%2B%25D0%259F%25D0%25B5%25D0%25BB%25D0%25B8%25D0%25BD%26um%3D1%26hl%3Dbg%26sa%3DN" TargetMode="External"/><Relationship Id="rId6" Type="http://schemas.openxmlformats.org/officeDocument/2006/relationships/image" Target="../media/image13.jpe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bg/imgres?imgurl=http://dichev.com/blog/wp-content/uploads/2007/06/ran_bosilek.gif&amp;imgrefurl=http://dichev.com/blog/%3Flivehit%3D%26paged%3D16&amp;h=250&amp;w=200&amp;sz=38&amp;hl=bg&amp;start=1&amp;um=1&amp;tbnid=yy648NgF2VdzjM:&amp;tbnh=111&amp;tbnw=89&amp;prev=/images%3Fq%3D%25D0%25A0%25D0%25B0%25D0%25BD%2B%25D0%2591%25D0%25BE%25D1%2581%25D0%25B8%25D0%25BB%25D0%25B5%25D0%25BA%26um%3D1%26hl%3Dbg" TargetMode="External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bg/imgres?imgurl=http://media.abv.bg/img.phtml%3Fid%3D223007&amp;imgrefurl=http://www.netinfo.bg/%3Ftid%3D40%26oid%3D1129883&amp;h=453&amp;w=365&amp;sz=29&amp;hl=bg&amp;start=17&amp;um=1&amp;tbnid=i2LMpyeSInxDKM:&amp;tbnh=127&amp;tbnw=102&amp;prev=/images%3Fq%3D%25D0%2597%25D0%25BB%25D0%25B0%25D1%2582%25D1%258E%2B%25D0%2591%25D0%25BE%25D1%258F%25D0%25B4%25D0%25B6%25D0%25B8%25D0%25B5%25D0%25B2%26um%3D1%26hl%3Dbg%26sa%3DN" TargetMode="External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bg.wikipedia.org/wiki/&#1063;&#1077;&#1093;&#1080;&#1103;" TargetMode="External"/><Relationship Id="rId3" Type="http://schemas.openxmlformats.org/officeDocument/2006/relationships/hyperlink" Target="http://bg.wikipedia.org/wiki/&#1046;&#1080;&#1074;&#1086;&#1087;&#1080;&#1089;" TargetMode="External"/><Relationship Id="rId4" Type="http://schemas.openxmlformats.org/officeDocument/2006/relationships/hyperlink" Target="http://bg.wikipedia.org/wiki/&#1048;&#1079;&#1090;&#1086;&#1095;&#1085;&#1072;_&#1056;&#1091;&#1084;&#1077;&#1083;&#1080;&#1103;" TargetMode="External"/><Relationship Id="rId5" Type="http://schemas.openxmlformats.org/officeDocument/2006/relationships/hyperlink" Target="http://bg.wikipedia.org/wiki/1881" TargetMode="External"/><Relationship Id="rId6" Type="http://schemas.openxmlformats.org/officeDocument/2006/relationships/hyperlink" Target="http://bg.wikipedia.org/wiki/&#1055;&#1083;&#1086;&#1074;&#1076;&#1080;&#1074;" TargetMode="External"/><Relationship Id="rId7" Type="http://schemas.openxmlformats.org/officeDocument/2006/relationships/hyperlink" Target="http://bg.wikipedia.org/wiki/&#1048;&#1074;&#1072;&#1085;_&#1042;&#1072;&#1079;&#1086;&#1074;" TargetMode="External"/><Relationship Id="rId8" Type="http://schemas.openxmlformats.org/officeDocument/2006/relationships/hyperlink" Target="http://bg.wikipedia.org/wiki/&#1050;&#1086;&#1085;&#1089;&#1090;&#1072;&#1085;&#1090;&#1080;&#1085;_&#1042;&#1077;&#1083;&#1080;&#1095;&#1082;&#1086;&#1074;" TargetMode="External"/><Relationship Id="rId9" Type="http://schemas.openxmlformats.org/officeDocument/2006/relationships/hyperlink" Target="http://bg.wikipedia.org/wiki/&#1055;&#1077;&#1090;&#1082;&#1086;_&#1050;&#1072;&#1088;&#1072;&#1074;&#1077;&#1083;&#1086;&#1074;" TargetMode="External"/><Relationship Id="rId10" Type="http://schemas.openxmlformats.org/officeDocument/2006/relationships/hyperlink" Target="http://bg.wikipedia.org/wiki/&#1055;&#1077;&#1090;&#1082;&#1086;_&#1056;._&#1057;&#1083;&#1072;&#1074;&#1077;&#1081;&#1082;&#1086;&#1074;" TargetMode="External"/><Relationship Id="rId11" Type="http://schemas.openxmlformats.org/officeDocument/2006/relationships/hyperlink" Target="http://bg.wikipedia.org/wiki/&#1055;&#1083;&#1086;&#1074;&#1076;&#1080;&#1074;" TargetMode="External"/><Relationship Id="rId12" Type="http://schemas.openxmlformats.org/officeDocument/2006/relationships/hyperlink" Target="http://images.google.bg/imgres?imgurl=http://standartnews.com/images/articles/orig_153457_bg.jpg&amp;imgrefurl=http://new.standartnews.com/bg/article.php%3Fd%3D2006-07-18%26article%3D153457&amp;h=355&amp;w=300&amp;sz=47&amp;hl=bg&amp;start=1&amp;um=1&amp;tbnid=TvzbKAqdgBoeUM:&amp;tbnh=121&amp;tbnw=102&amp;prev=/images%3Fq%3D%25D0%2598%25D0%25B2%25D0%25B0%25D0%25BD%2B%25D0%259C%25D1%258A%25D1%2580%25D0%25BA%25D0%25B2%25D0%25B8%25D1%2587%25D0%25BA%25D0%25B0%26um%3D1%26hl%3Dbg%26sa%3DN" TargetMode="External"/><Relationship Id="rId13" Type="http://schemas.openxmlformats.org/officeDocument/2006/relationships/image" Target="../media/image31.jpeg"/><Relationship Id="rId14" Type="http://schemas.openxmlformats.org/officeDocument/2006/relationships/image" Target="../media/image32.jpeg"/><Relationship Id="rId15" Type="http://schemas.openxmlformats.org/officeDocument/2006/relationships/hyperlink" Target="http://calendar.dir.bg/view_pic.php?eid=21678" TargetMode="External"/><Relationship Id="rId16" Type="http://schemas.openxmlformats.org/officeDocument/2006/relationships/image" Target="../media/image33.jpeg"/><Relationship Id="rId17" Type="http://schemas.openxmlformats.org/officeDocument/2006/relationships/image" Target="../media/image34.jpeg"/><Relationship Id="rId18" Type="http://schemas.openxmlformats.org/officeDocument/2006/relationships/image" Target="../media/image35.jpeg"/><Relationship Id="rId19" Type="http://schemas.openxmlformats.org/officeDocument/2006/relationships/image" Target="../media/image36.jpeg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2"/>
          <a:stretch/>
        </p:blipFill>
        <p:spPr>
          <a:xfrm>
            <a:off x="-92160" y="603360"/>
            <a:ext cx="9382320" cy="4736880"/>
          </a:xfrm>
          <a:prstGeom prst="rect">
            <a:avLst/>
          </a:prstGeom>
          <a:ln w="0">
            <a:noFill/>
          </a:ln>
        </p:spPr>
      </p:pic>
      <p:pic>
        <p:nvPicPr>
          <p:cNvPr id="196" name="Title 1" descr=""/>
          <p:cNvPicPr/>
          <p:nvPr/>
        </p:nvPicPr>
        <p:blipFill>
          <a:blip r:embed="rId3"/>
          <a:stretch/>
        </p:blipFill>
        <p:spPr>
          <a:xfrm>
            <a:off x="6248520" y="6334200"/>
            <a:ext cx="2646360" cy="414360"/>
          </a:xfrm>
          <a:prstGeom prst="rect">
            <a:avLst/>
          </a:prstGeom>
          <a:ln w="0">
            <a:noFill/>
          </a:ln>
        </p:spPr>
      </p:pic>
      <p:pic>
        <p:nvPicPr>
          <p:cNvPr id="197" name="15 - vangelis - la petite fille de la mer.mp3" descr=""/>
          <p:cNvPicPr/>
          <p:nvPr/>
        </p:nvPicPr>
        <p:blipFill>
          <a:blip r:embed="rId4"/>
          <a:stretch/>
        </p:blipFill>
        <p:spPr>
          <a:xfrm>
            <a:off x="54864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666880" y="91404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500" spc="-1" strike="noStrike">
                <a:solidFill>
                  <a:srgbClr val="424456"/>
                </a:solidFill>
                <a:latin typeface="Calibri"/>
              </a:rPr>
              <a:t>Велики български оперни певци</a:t>
            </a:r>
            <a:endParaRPr b="0" lang="en-US" sz="45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04560" y="4495680"/>
            <a:ext cx="19047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400" spc="-1" strike="noStrike">
                <a:solidFill>
                  <a:srgbClr val="000000"/>
                </a:solidFill>
                <a:latin typeface="Calibri"/>
              </a:rPr>
              <a:t>Николай Гяуров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2" name="Picture 2" descr="http://tbn0.google.com/images?q=tbn:mXb6BWkUnACXZM:http://www.bnr.bg/NR/rdonlyres/2518ACED-7028-46E7-ABDA-F4A3BB64526B/0/r_kabaivanska_portret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657600" y="2057400"/>
            <a:ext cx="1523880" cy="2198520"/>
          </a:xfrm>
          <a:prstGeom prst="rect">
            <a:avLst/>
          </a:prstGeom>
          <a:ln w="0">
            <a:noFill/>
          </a:ln>
        </p:spPr>
      </p:pic>
      <p:sp>
        <p:nvSpPr>
          <p:cNvPr id="253" name="Title 1"/>
          <p:cNvSpPr/>
          <p:nvPr/>
        </p:nvSpPr>
        <p:spPr>
          <a:xfrm>
            <a:off x="3276720" y="4495680"/>
            <a:ext cx="2666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Calibri"/>
              </a:rPr>
              <a:t>Райн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2800" spc="-1" strike="noStrike">
                <a:solidFill>
                  <a:srgbClr val="000000"/>
                </a:solidFill>
                <a:latin typeface="Calibri"/>
              </a:rPr>
              <a:t>Кабаиван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4" descr="http://www.ideabg.com/clients/funtime/gal/photos/81k.jpg"/>
          <p:cNvPicPr/>
          <p:nvPr/>
        </p:nvPicPr>
        <p:blipFill>
          <a:blip r:embed="rId4"/>
          <a:stretch/>
        </p:blipFill>
        <p:spPr>
          <a:xfrm>
            <a:off x="6553080" y="2590920"/>
            <a:ext cx="2114640" cy="2438280"/>
          </a:xfrm>
          <a:prstGeom prst="rect">
            <a:avLst/>
          </a:prstGeom>
          <a:ln w="0">
            <a:noFill/>
          </a:ln>
        </p:spPr>
      </p:pic>
      <p:sp>
        <p:nvSpPr>
          <p:cNvPr id="255" name="Title 1"/>
          <p:cNvSpPr/>
          <p:nvPr/>
        </p:nvSpPr>
        <p:spPr>
          <a:xfrm>
            <a:off x="6324480" y="5334120"/>
            <a:ext cx="2667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Борис Христов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8" descr="http://www.bnr.bg/NR/rdonlyres/EC902FDD-78D8-4BB8-ABA5-9A99B48CA28E/0/n_ghiaurov.jpg"/>
          <p:cNvPicPr/>
          <p:nvPr/>
        </p:nvPicPr>
        <p:blipFill>
          <a:blip r:embed="rId5"/>
          <a:stretch/>
        </p:blipFill>
        <p:spPr>
          <a:xfrm>
            <a:off x="152280" y="1066680"/>
            <a:ext cx="22100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784872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500" spc="-1" strike="noStrike">
                <a:solidFill>
                  <a:srgbClr val="424456"/>
                </a:solidFill>
                <a:latin typeface="Calibri"/>
              </a:rPr>
              <a:t>Велики български артисти</a:t>
            </a:r>
            <a:endParaRPr b="0" lang="en-US" sz="4500" spc="-1" strike="noStrike">
              <a:solidFill>
                <a:srgbClr val="424456"/>
              </a:solidFill>
              <a:latin typeface="Calibri"/>
            </a:endParaRPr>
          </a:p>
        </p:txBody>
      </p:sp>
      <p:pic>
        <p:nvPicPr>
          <p:cNvPr id="258" name="Picture 2" descr="СТОЯНКА МУТАФОВА: КАЛОЯНЧЕВ КЕПАЗИ НАЙ-БЛИЗКИЯ СИ ЧОВЕК! вестник ШОУ, №25, 21 юни 2006, с. 8-9"/>
          <p:cNvPicPr/>
          <p:nvPr/>
        </p:nvPicPr>
        <p:blipFill>
          <a:blip r:embed="rId2"/>
          <a:stretch/>
        </p:blipFill>
        <p:spPr>
          <a:xfrm>
            <a:off x="6095880" y="1600200"/>
            <a:ext cx="2498760" cy="16956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" descr="Георги Калоянчев &#10;Източник: Bulphot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2280" y="4724280"/>
            <a:ext cx="1676520" cy="18860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http://www.standartnews.com/images/articles/orig_211899_bg.jpg"/>
          <p:cNvPicPr/>
          <p:nvPr/>
        </p:nvPicPr>
        <p:blipFill>
          <a:blip r:embed="rId5"/>
          <a:stretch/>
        </p:blipFill>
        <p:spPr>
          <a:xfrm>
            <a:off x="3124080" y="2057400"/>
            <a:ext cx="2475000" cy="44388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8" descr="Емил Димитров &#10;Източник: Bulphoto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348680" y="4838760"/>
            <a:ext cx="1795320" cy="20192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2" descr="http://lili-ivanova.hit.bg/thumb6.jp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867280" y="3300480"/>
            <a:ext cx="1524240" cy="18241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4" descr="Орлин Горанов &#10;Източник: Bulphoto"/>
          <p:cNvPicPr/>
          <p:nvPr/>
        </p:nvPicPr>
        <p:blipFill>
          <a:blip r:embed="rId10"/>
          <a:stretch/>
        </p:blipFill>
        <p:spPr>
          <a:xfrm>
            <a:off x="2057400" y="3429000"/>
            <a:ext cx="1523880" cy="17146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6" descr="Източник: pop.bg"/>
          <p:cNvPicPr/>
          <p:nvPr/>
        </p:nvPicPr>
        <p:blipFill>
          <a:blip r:embed="rId11"/>
          <a:stretch/>
        </p:blipFill>
        <p:spPr>
          <a:xfrm>
            <a:off x="304920" y="1752480"/>
            <a:ext cx="1523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1920" y="838080"/>
            <a:ext cx="396252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500" spc="-1" strike="noStrike">
                <a:solidFill>
                  <a:srgbClr val="424456"/>
                </a:solidFill>
                <a:latin typeface="Calibri"/>
              </a:rPr>
              <a:t>Паметници </a:t>
            </a:r>
            <a:br>
              <a:rPr sz="4500"/>
            </a:br>
            <a:r>
              <a:rPr b="1" i="1" lang="en-US" sz="4500" spc="-1" strike="noStrike">
                <a:solidFill>
                  <a:srgbClr val="424456"/>
                </a:solidFill>
                <a:latin typeface="Calibri"/>
              </a:rPr>
              <a:t>на културата</a:t>
            </a:r>
            <a:endParaRPr b="0" lang="en-US" sz="4500" spc="-1" strike="noStrike">
              <a:solidFill>
                <a:srgbClr val="424456"/>
              </a:solidFill>
              <a:latin typeface="Calibri"/>
            </a:endParaRPr>
          </a:p>
        </p:txBody>
      </p:sp>
      <p:pic>
        <p:nvPicPr>
          <p:cNvPr id="266" name="Picture 4" descr="НДК"/>
          <p:cNvPicPr/>
          <p:nvPr/>
        </p:nvPicPr>
        <p:blipFill>
          <a:blip r:embed="rId2"/>
          <a:stretch/>
        </p:blipFill>
        <p:spPr>
          <a:xfrm>
            <a:off x="5443560" y="4724280"/>
            <a:ext cx="3700440" cy="19591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6" descr="Софийски университет"/>
          <p:cNvPicPr/>
          <p:nvPr/>
        </p:nvPicPr>
        <p:blipFill>
          <a:blip r:embed="rId3"/>
          <a:stretch/>
        </p:blipFill>
        <p:spPr>
          <a:xfrm>
            <a:off x="5338800" y="609480"/>
            <a:ext cx="3805200" cy="27432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8" descr="Фронтален изглед на Народна библиотека Свети Кирил и Методий"/>
          <p:cNvPicPr/>
          <p:nvPr/>
        </p:nvPicPr>
        <p:blipFill>
          <a:blip r:embed="rId4"/>
          <a:stretch/>
        </p:blipFill>
        <p:spPr>
          <a:xfrm>
            <a:off x="228600" y="4267080"/>
            <a:ext cx="2971800" cy="22291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2" descr="http://yoocards.com/data/media/15/sofia_7.jpg"/>
          <p:cNvPicPr/>
          <p:nvPr/>
        </p:nvPicPr>
        <p:blipFill>
          <a:blip r:embed="rId5"/>
          <a:stretch/>
        </p:blipFill>
        <p:spPr>
          <a:xfrm>
            <a:off x="3048120" y="2590920"/>
            <a:ext cx="32511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Храм-паметник “Александър Невски” с криптата"/>
          <p:cNvPicPr/>
          <p:nvPr/>
        </p:nvPicPr>
        <p:blipFill>
          <a:blip r:embed="rId2"/>
          <a:stretch/>
        </p:blipFill>
        <p:spPr>
          <a:xfrm>
            <a:off x="5365800" y="0"/>
            <a:ext cx="3778200" cy="29718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8" descr="http://images02.snimka.bg/000402488.jpg"/>
          <p:cNvPicPr/>
          <p:nvPr/>
        </p:nvPicPr>
        <p:blipFill>
          <a:blip r:embed="rId3"/>
          <a:stretch/>
        </p:blipFill>
        <p:spPr>
          <a:xfrm>
            <a:off x="5181480" y="3886200"/>
            <a:ext cx="3962520" cy="29718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0" descr="Рила манастир вътре"/>
          <p:cNvPicPr/>
          <p:nvPr/>
        </p:nvPicPr>
        <p:blipFill>
          <a:blip r:embed="rId4"/>
          <a:stretch/>
        </p:blipFill>
        <p:spPr>
          <a:xfrm>
            <a:off x="0" y="3962520"/>
            <a:ext cx="3218040" cy="28954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2" descr="http://sotirmarchev.tripod.com/ficheto.jpg"/>
          <p:cNvPicPr/>
          <p:nvPr/>
        </p:nvPicPr>
        <p:blipFill>
          <a:blip r:embed="rId5"/>
          <a:stretch/>
        </p:blipFill>
        <p:spPr>
          <a:xfrm>
            <a:off x="0" y="0"/>
            <a:ext cx="5029200" cy="30052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2" descr="Храм-паметник „Рождество Христово“"/>
          <p:cNvPicPr/>
          <p:nvPr/>
        </p:nvPicPr>
        <p:blipFill>
          <a:blip r:embed="rId6"/>
          <a:stretch/>
        </p:blipFill>
        <p:spPr>
          <a:xfrm>
            <a:off x="2971800" y="2438280"/>
            <a:ext cx="264780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5867640" cy="960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424456"/>
                </a:solidFill>
                <a:latin typeface="Calibri"/>
              </a:rPr>
              <a:t>Писатели и поети</a:t>
            </a: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352680" y="1218960"/>
            <a:ext cx="2362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30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Де е България?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Питат ли ме де зората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ме й огряла първи път,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питат ли ме де й земята,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що най-любя на светът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Тамо, аз ще отговоря,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де се белий Дунав лей,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де от изток Черно море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се бунтува и светлей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тамо, де се възвишава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горда Стара планина,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де Марица тихо шава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из тракийска равнина,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Българио, драга, мила,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земля пълна с добрини,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земля, що си ме кърмила,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моят поклон приемни!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0" name="Content Placeholder 4" descr="images.jpg"/>
          <p:cNvPicPr/>
          <p:nvPr/>
        </p:nvPicPr>
        <p:blipFill>
          <a:blip r:embed="rId2"/>
          <a:stretch/>
        </p:blipFill>
        <p:spPr>
          <a:xfrm>
            <a:off x="6477120" y="685800"/>
            <a:ext cx="2079360" cy="33051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" descr="Родният дом на Иван Вазов в Сопот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3733920"/>
            <a:ext cx="3584520" cy="2695320"/>
          </a:xfrm>
          <a:prstGeom prst="rect">
            <a:avLst/>
          </a:prstGeom>
          <a:ln w="0">
            <a:noFill/>
          </a:ln>
        </p:spPr>
      </p:pic>
      <p:sp>
        <p:nvSpPr>
          <p:cNvPr id="202" name="Title 1"/>
          <p:cNvSpPr/>
          <p:nvPr/>
        </p:nvSpPr>
        <p:spPr>
          <a:xfrm flipV="1" rot="10800000">
            <a:off x="0" y="6477120"/>
            <a:ext cx="3124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Родният дом на Иван Вазов в </a:t>
            </a:r>
            <a:r>
              <a:rPr b="0" lang="ru-RU" sz="1400" spc="-1" strike="noStrike" u="sng">
                <a:solidFill>
                  <a:srgbClr val="67afbd"/>
                </a:solidFill>
                <a:uFillTx/>
                <a:latin typeface="Constantia"/>
                <a:hlinkClick r:id="rId5"/>
              </a:rPr>
              <a:t>Сопо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5943600" y="3995640"/>
            <a:ext cx="3048120" cy="28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ван Минчев Ваз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е роден на 27.06.1850 г. в гр. Сопот. Учи в родния си град, в Калофер и в Пловдив. Живее за кратко в Румъния, където срещата с хъшовете насочва младия поет към патриотично-граждански теми, на които остава верен цял живот. Работи като учител и преводач, включва се в различни родолюбиви начинания - преди и след Освобождението, за кратко е министър. Но основното му призвание - писателството - дава облика на живота 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500" spc="-1" strike="noStrike">
                <a:solidFill>
                  <a:srgbClr val="424456"/>
                </a:solidFill>
                <a:latin typeface="Calibri"/>
              </a:rPr>
              <a:t>Части от произведения на Иван Вазов</a:t>
            </a:r>
            <a:endParaRPr b="0" lang="en-US" sz="45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6840" y="2590560"/>
            <a:ext cx="3352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Левски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Манастирът тесен за мойта душа е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Кога човек дойде тук да се покае,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трябва да забрави греховния мир,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да бяга съблазни и да търси мир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Мойта съвест инак днеска ми говори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Това расо черно, що нося отгоре,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не ме помирява с тия небеса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и когато в храма дигна си гласа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химн да пея богу, да получа раят,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мисля, че той слуша тия, що ридая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в тоя дол плачевни, живот нестърпим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И мойта молитва се губи кат дим,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и господ сърдит си затуля ухото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на светата песен и херувикото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3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Title 1"/>
          <p:cNvSpPr/>
          <p:nvPr/>
        </p:nvSpPr>
        <p:spPr>
          <a:xfrm>
            <a:off x="4267080" y="1600200"/>
            <a:ext cx="31244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Content Placeholder 2"/>
          <p:cNvSpPr/>
          <p:nvPr/>
        </p:nvSpPr>
        <p:spPr>
          <a:xfrm>
            <a:off x="4267080" y="1447920"/>
            <a:ext cx="3353040" cy="44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4800600" y="1295280"/>
            <a:ext cx="3733920" cy="57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onstantia"/>
              </a:rPr>
              <a:t>Опълченците на Шип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onstantia"/>
              </a:rPr>
              <a:t>...</a:t>
            </a:r>
            <a:br>
              <a:rPr sz="1800"/>
            </a:br>
            <a:r>
              <a:rPr b="0" lang="bg-BG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, Шипк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Три деня младите дружи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как прохода бранят. Горските доли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трепетно повтарят на боя ревъ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Пристъпи ужасни! Дванайсетий пъ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гъсти орди лазят по урвата ди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и тела я стелят, и кръв я зали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Бури подир бури! Рояк след рояк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Сюлейман безумний сочи върха па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и вика: "Търчете! Тамо са раите!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И ордите тръгват с викове сърдит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и "Аллах!" гръмовно въздуха разп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Върхът отговаря с други вик: ура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И с нов дъжд куршуми, камъни и дървь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дружините наши, оплискани с кърв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пушкат и отблъскват, без сигнал, без ред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всякой гледа само да бъде напре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и гърди геройски на смърт да излож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и един враг повеч мъртъв да положи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360" y="685800"/>
            <a:ext cx="38098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500" spc="-1" strike="noStrike">
                <a:solidFill>
                  <a:srgbClr val="424456"/>
                </a:solidFill>
                <a:latin typeface="Calibri"/>
              </a:rPr>
              <a:t>Елин Пелин</a:t>
            </a:r>
            <a:br>
              <a:rPr sz="4500"/>
            </a:br>
            <a:endParaRPr b="0" lang="en-US" sz="4500" spc="-1" strike="noStrike">
              <a:solidFill>
                <a:srgbClr val="424456"/>
              </a:solidFill>
              <a:latin typeface="Calibri"/>
            </a:endParaRPr>
          </a:p>
        </p:txBody>
      </p:sp>
      <p:pic>
        <p:nvPicPr>
          <p:cNvPr id="210" name="Content Placeholder 5" descr="hermes_fr35.jpg"/>
          <p:cNvPicPr/>
          <p:nvPr/>
        </p:nvPicPr>
        <p:blipFill>
          <a:blip r:embed="rId2"/>
          <a:stretch/>
        </p:blipFill>
        <p:spPr>
          <a:xfrm>
            <a:off x="3886200" y="3657600"/>
            <a:ext cx="1905120" cy="2938320"/>
          </a:xfrm>
          <a:prstGeom prst="rect">
            <a:avLst/>
          </a:prstGeom>
          <a:ln w="0">
            <a:noFill/>
          </a:ln>
        </p:spPr>
      </p:pic>
      <p:sp>
        <p:nvSpPr>
          <p:cNvPr id="211" name="Title 1"/>
          <p:cNvSpPr/>
          <p:nvPr/>
        </p:nvSpPr>
        <p:spPr>
          <a:xfrm>
            <a:off x="228600" y="5715000"/>
            <a:ext cx="3886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одният дом на Елин Пелин в с. Байло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2" descr="Родният дом на Елин Пелин в с. Байлово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2438280"/>
            <a:ext cx="3873600" cy="28958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http://tbn0.google.com/images?q=tbn:lpHO4-4WbTfaUM:http://upload.wikimedia.org/wikipedia/bg/thumb/6/6a/Elin_Pelin.jpg/160px-Elin_Pelin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553080" y="685800"/>
            <a:ext cx="2133720" cy="32148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2" descr="http://www.zlatnoto-pate.com/files/attach/pic1_105_106"/>
          <p:cNvPicPr/>
          <p:nvPr/>
        </p:nvPicPr>
        <p:blipFill>
          <a:blip r:embed="rId7"/>
          <a:stretch/>
        </p:blipFill>
        <p:spPr>
          <a:xfrm>
            <a:off x="7391520" y="3809880"/>
            <a:ext cx="1600200" cy="21891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4" descr="http://www.zlatnoto-pate.com/files/attach/pic1_217_218"/>
          <p:cNvPicPr/>
          <p:nvPr/>
        </p:nvPicPr>
        <p:blipFill>
          <a:blip r:embed="rId8"/>
          <a:stretch/>
        </p:blipFill>
        <p:spPr>
          <a:xfrm>
            <a:off x="4038480" y="1600200"/>
            <a:ext cx="1590840" cy="2124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6" descr="http://www.knigabg.com/covers/330/2060.jpg"/>
          <p:cNvPicPr/>
          <p:nvPr/>
        </p:nvPicPr>
        <p:blipFill>
          <a:blip r:embed="rId9"/>
          <a:stretch/>
        </p:blipFill>
        <p:spPr>
          <a:xfrm>
            <a:off x="5867280" y="4495680"/>
            <a:ext cx="1524240" cy="213372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14"/>
          <p:cNvSpPr/>
          <p:nvPr/>
        </p:nvSpPr>
        <p:spPr>
          <a:xfrm>
            <a:off x="0" y="12952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е псевдоним на Димитър Иванов Стоянов (8.07.1877, с. Байлово, Софийско - 3.12.1949, Софи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819520" y="6091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5000" spc="-1" strike="noStrike">
                <a:solidFill>
                  <a:srgbClr val="424456"/>
                </a:solidFill>
                <a:latin typeface="Calibri"/>
              </a:rPr>
              <a:t>Ран Босилек</a:t>
            </a: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3505320"/>
            <a:ext cx="3733920" cy="30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РОДНА СТРЯХА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Бяла, спретната къщурка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две липи отпред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Тука майчина милувка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сетих най-напред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Тука, под липите стари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не веднъж играх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тука с весели другари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скачах и се смях..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Къщичке на дните злати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кът свиден и мил!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И за царските палати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не бих те сменил!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2" descr="http://tbn0.google.com/images?q=tbn:yy648NgF2VdzjM:http://dichev.com/blog/wp-content/uploads/2007/06/ran_bosilek.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080" y="914400"/>
            <a:ext cx="1828800" cy="22813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" descr="http://www.hermesbooks.com/images/b0234.jpg"/>
          <p:cNvPicPr/>
          <p:nvPr/>
        </p:nvPicPr>
        <p:blipFill>
          <a:blip r:embed="rId4"/>
          <a:stretch/>
        </p:blipFill>
        <p:spPr>
          <a:xfrm>
            <a:off x="5791320" y="2819520"/>
            <a:ext cx="2743200" cy="38401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http://knigibg.com/img/0016/big/7543_1.jpg"/>
          <p:cNvPicPr/>
          <p:nvPr/>
        </p:nvPicPr>
        <p:blipFill>
          <a:blip r:embed="rId5"/>
          <a:stretch/>
        </p:blipFill>
        <p:spPr>
          <a:xfrm>
            <a:off x="3124080" y="2057400"/>
            <a:ext cx="2667240" cy="3733920"/>
          </a:xfrm>
          <a:prstGeom prst="rect">
            <a:avLst/>
          </a:prstGeom>
          <a:ln w="0">
            <a:noFill/>
          </a:ln>
        </p:spPr>
      </p:pic>
      <p:sp>
        <p:nvSpPr>
          <p:cNvPr id="223" name="Content Placeholder 2"/>
          <p:cNvSpPr/>
          <p:nvPr/>
        </p:nvSpPr>
        <p:spPr>
          <a:xfrm>
            <a:off x="6019920" y="762120"/>
            <a:ext cx="27432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(псевдоним на Генчо Негенцов) е роден в Габрово през 1886 г. Завършва Априловската гимназия и известно време е учител. Следва в Софийския университет, после в Брюксел (право). Редактор на популярното списание "Детска радост". Автор е на "Косе-Босе" (1923), "Чик-чирик" (1925), "Патиланчо" (1926), "Баба Меца" (1928), "Патиланчо Данчо" (1929), "Палави ръчички" (1945), "Родна стряха" (1964) и др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8" descr="http://euliterarymarathonbg.iradeum.com/images/radichkov.jpg"/>
          <p:cNvPicPr/>
          <p:nvPr/>
        </p:nvPicPr>
        <p:blipFill>
          <a:blip r:embed="rId2"/>
          <a:stretch/>
        </p:blipFill>
        <p:spPr>
          <a:xfrm>
            <a:off x="6172200" y="762120"/>
            <a:ext cx="2639880" cy="389736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424456"/>
                </a:solidFill>
                <a:latin typeface="Calibri"/>
              </a:rPr>
              <a:t>Йордан Радичков</a:t>
            </a: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560" y="1371600"/>
            <a:ext cx="41907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just">
              <a:spcBef>
                <a:spcPts val="30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onstantia"/>
              </a:rPr>
              <a:t>Р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оден е  на 24. 10. 1929 г. в с. Калиманица, Монтанско. Завършва гимназия в Берковица. Дълги години е редактор в литературни издания. Започва да публикува импресии, очерци и разкази в печата, а през 1959 г. издава първата си книга с разкази "Сърцето бие за хората". Неговият седми сборник с разкази "Свирепо настроение" (1965), както и следващите - "Водолей" (1967), "Козята брада" (1967), "Вятърът на спокойствието" (1968), "Ние, врабчетата" (1968), "Коженият пъпеш" (1969), "Верблюд" (1984) и др. променят познатите за литератураната ни традиция повествователни правила и проправя пътя на белетрист от друг разред. "Неосветените дворове" (1966), "Всички и никой" (1975), "Прашка" (1977) и "Ноев ковчег" (1988) представят автора като романист отново в специфичните радичковски измерения на жанра. Успоредно с това писателят се изявява като един от най-добрите български драматурзи, чиито пиеси продължават шествието си по сцените - "Суматоха" (1967), "Януари" (1974), "Лазарица" (1979), "Опит за летене" (1979). През последните години авторът добавя нови щрихи в творчеството си - "Мюре" (1997), "Пупаво време" (2000). Умира на 21.01.2004 г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7" name="Picture 6" descr="Нежната спирала"/>
          <p:cNvPicPr/>
          <p:nvPr/>
        </p:nvPicPr>
        <p:blipFill>
          <a:blip r:embed="rId3"/>
          <a:stretch/>
        </p:blipFill>
        <p:spPr>
          <a:xfrm>
            <a:off x="7086600" y="4146480"/>
            <a:ext cx="1781280" cy="27115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Ние, врабчетата"/>
          <p:cNvPicPr/>
          <p:nvPr/>
        </p:nvPicPr>
        <p:blipFill>
          <a:blip r:embed="rId4"/>
          <a:stretch/>
        </p:blipFill>
        <p:spPr>
          <a:xfrm>
            <a:off x="4800600" y="3352680"/>
            <a:ext cx="228600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424456"/>
                </a:solidFill>
                <a:latin typeface="Calibri"/>
              </a:rPr>
              <a:t>Български художници</a:t>
            </a: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86000" y="19810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Владимир Димитров-Майстор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1" name="Picture 2" descr="Майстора"/>
          <p:cNvPicPr/>
          <p:nvPr/>
        </p:nvPicPr>
        <p:blipFill>
          <a:blip r:embed="rId2"/>
          <a:stretch/>
        </p:blipFill>
        <p:spPr>
          <a:xfrm>
            <a:off x="457200" y="990720"/>
            <a:ext cx="1847880" cy="2457360"/>
          </a:xfrm>
          <a:prstGeom prst="rect">
            <a:avLst/>
          </a:prstGeom>
          <a:ln w="0">
            <a:noFill/>
          </a:ln>
        </p:spPr>
      </p:pic>
      <p:sp>
        <p:nvSpPr>
          <p:cNvPr id="232" name="Content Placeholder 2"/>
          <p:cNvSpPr/>
          <p:nvPr/>
        </p:nvSpPr>
        <p:spPr>
          <a:xfrm>
            <a:off x="0" y="3429000"/>
            <a:ext cx="42670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Рисувал изключително битови композиции. Един от най-ярките самобитни български художници, близък с изкуството си до живота и бита на народа. Вълнува се от красотата на родната земя и от декоративния стил на народното изкуство. Поетичното, декоративното и монументалното виждане на формите, богатата емоционалност и звучните багрени хармонии, постигнати в десетките му композиции, определят ярко неговия индивидуален облик на художник. Той е създал цяла галерия от характерни национални образи на селяни, селянки и девойки, претворил е с неповторимо художествено майсторство техния труд и народните обичаи и празненства. С националния си характер неговото изкуство е оставило дълбоки следи в нашата живопис. Представен е със "Сватба" - самобитно и типично за авторовия почерк платно, претворило непреходната хубост на българската жена, възпяващ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10" descr="http://art.domino.bg/works/bourgas/DSC_1656.jpg"/>
          <p:cNvPicPr/>
          <p:nvPr/>
        </p:nvPicPr>
        <p:blipFill>
          <a:blip r:embed="rId3"/>
          <a:stretch/>
        </p:blipFill>
        <p:spPr>
          <a:xfrm>
            <a:off x="6877080" y="1143000"/>
            <a:ext cx="2266920" cy="38098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2" descr="http://vegetarianstvoto.hit.bg/images/Maistora-kart04.jpg"/>
          <p:cNvPicPr/>
          <p:nvPr/>
        </p:nvPicPr>
        <p:blipFill>
          <a:blip r:embed="rId4"/>
          <a:stretch/>
        </p:blipFill>
        <p:spPr>
          <a:xfrm>
            <a:off x="4952880" y="1371600"/>
            <a:ext cx="1962360" cy="24303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http://www.artgallery-themaster.com/bg/themaster/img_larger/img/img3.jpg"/>
          <p:cNvPicPr/>
          <p:nvPr/>
        </p:nvPicPr>
        <p:blipFill>
          <a:blip r:embed="rId5"/>
          <a:stretch/>
        </p:blipFill>
        <p:spPr>
          <a:xfrm>
            <a:off x="4267080" y="3809880"/>
            <a:ext cx="2673360" cy="22860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4" descr="http://www.president.bg/img/paintings/maisora-big.jpg"/>
          <p:cNvPicPr/>
          <p:nvPr/>
        </p:nvPicPr>
        <p:blipFill>
          <a:blip r:embed="rId6"/>
          <a:stretch/>
        </p:blipFill>
        <p:spPr>
          <a:xfrm>
            <a:off x="6738840" y="4038480"/>
            <a:ext cx="24051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057040" y="1219320"/>
            <a:ext cx="34290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500" spc="-1" strike="noStrike">
                <a:solidFill>
                  <a:srgbClr val="424456"/>
                </a:solidFill>
                <a:latin typeface="Calibri"/>
              </a:rPr>
              <a:t>Златю </a:t>
            </a:r>
            <a:br>
              <a:rPr sz="4500"/>
            </a:br>
            <a:r>
              <a:rPr b="1" i="1" lang="bg-BG" sz="4500" spc="-1" strike="noStrike">
                <a:solidFill>
                  <a:srgbClr val="424456"/>
                </a:solidFill>
                <a:latin typeface="Calibri"/>
              </a:rPr>
              <a:t>Бояджиев</a:t>
            </a:r>
            <a:endParaRPr b="0" lang="en-US" sz="45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3760" y="762120"/>
            <a:ext cx="34290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Един от оригиналните български художници със силно изявена индивидуалност. По живописна трактовка, колорит и емоционално съдържание неговото творчество се дели на два периода - до парализата му и след нея, когато е принуден да рисува с лявата ръка. През втория период той се очертава като художник с още по-самобитен и експресивен живописен език. Картините "Дете", "Нощна паша", "Стадо говеда", "Бачково", изложени в различни зали, са едни от най-характерните и ценни произведения на автора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9" name="Picture 2" descr="http://tbn0.google.com/images?q=tbn:i2LMpyeSInxDKM:http://media.abv.bg/img.phtml%3Fid%3D22300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1981080"/>
            <a:ext cx="1981080" cy="24670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6" descr="http://www.bnr.bg/NR/rdonlyres/1AD53B21-629E-492B-A251-BC1C470392F1/0/Zl_Bojadjiev_Pod_oreha.jpg"/>
          <p:cNvPicPr/>
          <p:nvPr/>
        </p:nvPicPr>
        <p:blipFill>
          <a:blip r:embed="rId4"/>
          <a:stretch/>
        </p:blipFill>
        <p:spPr>
          <a:xfrm>
            <a:off x="5143680" y="3362400"/>
            <a:ext cx="4000320" cy="34956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8" descr="http://plevengallery.hit.bg/images/1et10.jpg"/>
          <p:cNvPicPr/>
          <p:nvPr/>
        </p:nvPicPr>
        <p:blipFill>
          <a:blip r:embed="rId5"/>
          <a:stretch/>
        </p:blipFill>
        <p:spPr>
          <a:xfrm>
            <a:off x="2209680" y="2895480"/>
            <a:ext cx="259092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962520" y="838080"/>
            <a:ext cx="396216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500" spc="-1" strike="noStrike">
                <a:solidFill>
                  <a:srgbClr val="424456"/>
                </a:solidFill>
                <a:latin typeface="Calibri"/>
              </a:rPr>
              <a:t>Иван Мърквичка</a:t>
            </a:r>
            <a:endParaRPr b="0" lang="en-US" sz="45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151920" y="533520"/>
            <a:ext cx="20574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Професор Иван Мърквичка (Ян Вацлав Мърквичка) e роден в </a:t>
            </a:r>
            <a:r>
              <a:rPr b="0" lang="ru-RU" sz="1200" spc="-1" strike="noStrike" u="sng">
                <a:solidFill>
                  <a:srgbClr val="67afbd"/>
                </a:solidFill>
                <a:uFillTx/>
                <a:latin typeface="Constantia"/>
                <a:hlinkClick r:id="rId2"/>
              </a:rPr>
              <a:t>Чехия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. </a:t>
            </a:r>
            <a:r>
              <a:rPr b="0" lang="ru-RU" sz="1200" spc="-1" strike="noStrike" u="sng">
                <a:solidFill>
                  <a:srgbClr val="67afbd"/>
                </a:solidFill>
                <a:uFillTx/>
                <a:latin typeface="Constantia"/>
                <a:hlinkClick r:id="rId3"/>
              </a:rPr>
              <a:t>Живописец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, педагог и обществен деец. Учи в Пражката академия за изобразителни изкуства и в Мюнхенската художествена академия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По покана на Правителството на </a:t>
            </a:r>
            <a:r>
              <a:rPr b="0" lang="ru-RU" sz="1200" spc="-1" strike="noStrike" u="sng">
                <a:solidFill>
                  <a:srgbClr val="67afbd"/>
                </a:solidFill>
                <a:uFillTx/>
                <a:latin typeface="Constantia"/>
                <a:hlinkClick r:id="rId4"/>
              </a:rPr>
              <a:t>Източна Румелия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 през </a:t>
            </a:r>
            <a:r>
              <a:rPr b="0" lang="ru-RU" sz="1200" spc="-1" strike="noStrike" u="sng">
                <a:solidFill>
                  <a:srgbClr val="67afbd"/>
                </a:solidFill>
                <a:uFillTx/>
                <a:latin typeface="Constantia"/>
                <a:hlinkClick r:id="rId5"/>
              </a:rPr>
              <a:t>1881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 година идва в България. Назначен е като учител в </a:t>
            </a:r>
            <a:r>
              <a:rPr b="0" lang="ru-RU" sz="1200" spc="-1" strike="noStrike" u="sng">
                <a:solidFill>
                  <a:srgbClr val="67afbd"/>
                </a:solidFill>
                <a:uFillTx/>
                <a:latin typeface="Constantia"/>
                <a:hlinkClick r:id="rId6"/>
              </a:rPr>
              <a:t>Пловдив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Свързва се с най-изявените културни дейци в града - </a:t>
            </a:r>
            <a:r>
              <a:rPr b="0" lang="ru-RU" sz="1200" spc="-1" strike="noStrike" u="sng">
                <a:solidFill>
                  <a:srgbClr val="67afbd"/>
                </a:solidFill>
                <a:uFillTx/>
                <a:latin typeface="Constantia"/>
                <a:hlinkClick r:id="rId7"/>
              </a:rPr>
              <a:t>Иван Вазов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ru-RU" sz="1200" spc="-1" strike="noStrike" u="sng">
                <a:solidFill>
                  <a:srgbClr val="67afbd"/>
                </a:solidFill>
                <a:uFillTx/>
                <a:latin typeface="Constantia"/>
                <a:hlinkClick r:id="rId8"/>
              </a:rPr>
              <a:t>Константин Величков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ru-RU" sz="1200" spc="-1" strike="noStrike" u="sng">
                <a:solidFill>
                  <a:srgbClr val="67afbd"/>
                </a:solidFill>
                <a:uFillTx/>
                <a:latin typeface="Constantia"/>
                <a:hlinkClick r:id="rId9"/>
              </a:rPr>
              <a:t>Петко Каравелов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ru-RU" sz="1200" spc="-1" strike="noStrike" u="sng">
                <a:solidFill>
                  <a:srgbClr val="67afbd"/>
                </a:solidFill>
                <a:uFillTx/>
                <a:latin typeface="Constantia"/>
                <a:hlinkClick r:id="rId10"/>
              </a:rPr>
              <a:t>Петко Р. Славейков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. Самия Константин Величков взема уроци по живопис при него. Двамата обсъждат възможностите за откриване на Рисувално училище в </a:t>
            </a:r>
            <a:r>
              <a:rPr b="0" lang="ru-RU" sz="1200" spc="-1" strike="noStrike" u="sng">
                <a:solidFill>
                  <a:srgbClr val="67afbd"/>
                </a:solidFill>
                <a:uFillTx/>
                <a:latin typeface="Constantia"/>
                <a:hlinkClick r:id="rId11"/>
              </a:rPr>
              <a:t>Пловдив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4" name="Picture 2" descr="http://tbn0.google.com/images?q=tbn:TvzbKAqdgBoeUM:http://standartnews.com/images/articles/orig_153457_bg.jpg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7537320" y="1295280"/>
            <a:ext cx="1606680" cy="19051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8" descr="http://www.duma.bg/2006/1006/071006/snimki/1601-2.jpg"/>
          <p:cNvPicPr/>
          <p:nvPr/>
        </p:nvPicPr>
        <p:blipFill>
          <a:blip r:embed="rId14"/>
          <a:stretch/>
        </p:blipFill>
        <p:spPr>
          <a:xfrm>
            <a:off x="2209680" y="3352680"/>
            <a:ext cx="2381400" cy="17910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0" descr="http://i.dir.bg/calendar/upictures/features/f_22036073.jpg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2286000" y="609480"/>
            <a:ext cx="1606680" cy="24670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2" descr="http://standartnews.com/images/uploaded_images/pic_42289_bg.jpg"/>
          <p:cNvPicPr/>
          <p:nvPr/>
        </p:nvPicPr>
        <p:blipFill>
          <a:blip r:embed="rId17"/>
          <a:stretch/>
        </p:blipFill>
        <p:spPr>
          <a:xfrm>
            <a:off x="3886200" y="1828800"/>
            <a:ext cx="3432240" cy="22766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4" descr="http://plevengallery.hit.bg/images/1et01.jpg"/>
          <p:cNvPicPr/>
          <p:nvPr/>
        </p:nvPicPr>
        <p:blipFill>
          <a:blip r:embed="rId18"/>
          <a:stretch/>
        </p:blipFill>
        <p:spPr>
          <a:xfrm>
            <a:off x="6477120" y="3429000"/>
            <a:ext cx="2514600" cy="18288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4" descr="http://standartnews.com/images/uploaded_images/pic_42288_bg.jpg"/>
          <p:cNvPicPr/>
          <p:nvPr/>
        </p:nvPicPr>
        <p:blipFill>
          <a:blip r:embed="rId19"/>
          <a:stretch/>
        </p:blipFill>
        <p:spPr>
          <a:xfrm>
            <a:off x="3962520" y="4952880"/>
            <a:ext cx="34020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48:06Z</dcterms:created>
  <dc:creator>USER</dc:creator>
  <dc:description/>
  <dc:language>en-US</dc:language>
  <cp:lastModifiedBy>Home</cp:lastModifiedBy>
  <dcterms:modified xsi:type="dcterms:W3CDTF">2012-02-28T06:42:22Z</dcterms:modified>
  <cp:revision>49</cp:revision>
  <dc:subject/>
  <dc:title>Богатството на българската куртура</dc:title>
</cp:coreProperties>
</file>